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FF58-0CD8-4CDB-AEAF-9A4D8E41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A3B-5DA5-4C97-A4E7-A3976BF2E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6968-11CE-4D2F-AA56-1C7E0B74F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6100-75F6-48FE-8B61-058AB3233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D65B-BF48-4533-972C-455614571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C9E3-B10F-4A79-9030-C4F146586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DFE6-10E3-4A43-9828-359ADE4C3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2A96-9C3F-4F2C-8448-6ED66A67D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694F-18E1-469E-BC05-210130CB5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B28B-CA6B-418A-9E73-863D04E32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93F2-0049-4869-8075-56333EA6B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DDAD-4B53-43EF-B41F-50DE6BD70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FEC1-1634-4B8C-A80C-E76EA2783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E84A-27A8-4F33-BEE6-94F75A797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4FF8-4D01-4B1B-952C-3105C6DFB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7192-99CB-4DEA-952D-89CA6C2E6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9CE9-3E09-4F1E-92CC-91079B081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A257-9227-4573-9015-0DF597052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BCEC-D46F-42CD-A07F-47DC137E5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13C1-36F5-485B-AA7C-146F25D4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EF47-8485-4A8D-BA5D-2DC485D1C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0F99-3A90-4FF9-8321-01B808864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2283-4FD0-495E-AC72-CE05E6BE6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1763-6A63-47BA-BE12-07537B491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FC0E-530E-4C4E-B902-3AD1B2FD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A5F1-F4EA-4803-8394-3DB00F7CC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664A0-0A41-46BA-8AE9-E9DF990B9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FFDA-2F30-4BBF-BDD2-FF89DDAB2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3B63-202C-4D77-BDA2-5860B03E0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19A69-293B-4FD6-8952-E94DCCA48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40C59-1CFF-4238-864F-BA1E06619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AB99D-CA37-4377-91D4-63EF2684B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C9B20-4A83-46B8-B648-3811876EA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02838-7615-4A0B-8418-34EA7516B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A3ECE-2909-4803-8BD0-6CF1EB756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E6256-5A4D-40E6-B9DA-05C4A3AC2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22DB2-CE03-49BF-AE0A-595AA8127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089B3-82C9-4E1F-B89D-A33512DA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E3688-8725-416D-8252-0A7566DB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428F3-5FFA-460C-BD66-32E14014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C9E45-B3EB-4D62-9519-1C3D9B3A6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C47DD-902C-42AD-A61A-F582CE3B1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2071C-0184-464A-BF86-5737CC701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99474B-F01B-4851-BEA8-E9B2C664F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F88E21-1741-4E5F-B9D0-D91963820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3D35DC-3D52-4172-B7D4-5E5D215F7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A2CA28-4271-465E-A6D4-587FEF5F3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902A82-F0BE-49E1-B6F6-0A3C17122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3371-6BD2-47FE-90B5-87D533E3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6F58CD-D861-453B-A8AE-094181CD9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32422A-7174-4C9E-8034-748489691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99A5C8-380D-4077-9AC3-CB728BD20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B710DA-705B-4655-A623-FCB49011E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06E5F4-6128-4710-9524-136125F29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1BC2CA-DEAA-4CD3-A92C-33B8F2BA1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DC523F-B5AE-407C-BE1E-351A6F215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89ACDD-780E-429E-85DB-BC5224295F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E7868-357A-48D9-8FEC-C56B88CBF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0B932-125D-48B9-AF3C-2EC0DB824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C89F-1AFF-41F8-A333-01E26890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4252C-B01D-40D3-9CED-4057D00C6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CA5EC-BDED-4451-85FF-41CDCB91C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D2F8ED-9B32-4549-A010-7A7E68368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5DCAA-538C-4B55-B0F7-6611810DB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B7392-A9CD-4113-99A7-12047A590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352A0-B476-4822-8BCC-DAECB13AF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82909-059F-4FA3-ACDB-42EF3F485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0814FA-CF26-42D4-B4C1-113D4AC0E4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FAF04D-FA70-4864-8698-B676BC5F1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8F89AB-88C0-4F18-9654-A756D81CC8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F8EDE-6957-4108-ABFA-81366039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EB0B7F-E4D0-422B-A0B4-C27368001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BA5F18-7655-4DC5-AF1D-A0C8420D9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0FE153-96D3-40CE-AFD4-A86F80B48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A9515F9-2757-4886-8BAA-C081D30D5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E91FCA-662F-4CEE-A482-7D1E41C15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BF8C21-34A6-4133-873D-58472AB9D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BFBFD2-A06C-4288-B8C4-28B18CDE7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EBAC1B-FE4A-4E93-B5A9-82E745F67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4FD56E-B136-4C14-BAA6-92B967AA2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69C8967-876A-4883-AA02-19609E7126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815B-5078-4328-84D1-1E414674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942B97-DA34-4AA0-82CA-3B1A70AD74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6C74B1F-E9F9-4E11-8F9D-27BA4FA6DE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8E7F64-4BBD-419E-8393-AE934E90E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D9B5918-CB8C-44E7-9754-38F39D366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C517F6-BEF0-4380-99FE-0CA9306F8D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B6EAFE-A3E9-4C5E-ACF1-3A2746CA3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8B093C-7B85-40B7-98A2-3689E6A0F5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C9CE3C-8CC9-418A-9A28-C2F9258738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5FE63B-97A4-4E71-BBD4-B1BE8E0C8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869A57-AF22-43B0-8273-2E93BF9B5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9CB3-9698-451A-B0AD-BAB5A600E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1C8AA9-93DE-4F2F-A8FF-EDF66CF5B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7999C5B-33DF-4E22-8C4D-DB979919A1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05765CA-5A36-4368-89CE-4B0B35911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F070B58-D5BE-47DF-A784-3D793AEDBF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555C0B-7343-4DA0-89C6-32318EEBC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223823-C731-4436-9D1E-874C96DC6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C36E45-4703-4DC3-B4AD-B858AB911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B1732E-630A-412E-8984-32195EA04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EC51E8-0C7B-44E7-A1D0-6F00A5C56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338016-3B69-46D8-9E4B-2F4EFDC978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1612-F5A6-40BF-A597-3EBF9825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F62AEE-2E64-42D4-9987-F168F67E3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B26729-A7EC-49CF-BB89-15BBE7DF4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4A2206-8D5B-4742-8A73-74AAFAC78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F98BF41-FDD2-4040-A567-03318A54D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B5C6A6-6747-46AB-BD1B-E28454B02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DC01-6877-4464-8B36-A0B7603AC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6669-15E1-4235-8964-41EA2577731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EB0E-4F7D-4552-9151-26CEC27B608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3375-1317-4CF3-AA4E-95A8D5350AA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BDA1-48AE-4F5B-A849-B8A43AA3354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032A-8122-467B-839E-4F1AD8E587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E9C4-0A60-4597-AA23-5E73F7351AE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CD6B-96A7-4BA9-B9D4-B3A104C3923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ING MULTIPLE ASSESSMENTS TO EVALUATE STUDENT LEARNING IN THE SOCIAL STUDI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ee-Anne T. Spalding, Ed. 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Chapin, R. (2009). </a:t>
            </a:r>
            <a:r>
              <a:rPr b="0" i="1" lang="en-US" sz="1800" spc="-1" strike="noStrike">
                <a:solidFill>
                  <a:srgbClr val="575f6d"/>
                </a:solidFill>
                <a:latin typeface="Century Schoolbook"/>
              </a:rPr>
              <a:t>Elementary Social Studies: A Practical Guide</a:t>
            </a:r>
            <a:r>
              <a:rPr b="1" lang="en-US" sz="1800" spc="-1" strike="noStrike">
                <a:solidFill>
                  <a:srgbClr val="575f6d"/>
                </a:solidFill>
                <a:latin typeface="Century Schoolbook"/>
              </a:rPr>
              <a:t> </a:t>
            </a:r>
            <a:r>
              <a:rPr b="0" lang="en-US" sz="1800" spc="-1" strike="noStrike">
                <a:solidFill>
                  <a:srgbClr val="575f6d"/>
                </a:solidFill>
                <a:latin typeface="Century Schoolbook"/>
              </a:rPr>
              <a:t>7</a:t>
            </a:r>
            <a:r>
              <a:rPr b="0" lang="en-US" sz="1800" spc="-1" strike="noStrike" baseline="30000">
                <a:solidFill>
                  <a:srgbClr val="575f6d"/>
                </a:solidFill>
                <a:latin typeface="Century Schoolbook"/>
              </a:rPr>
              <a:t>th</a:t>
            </a:r>
            <a:r>
              <a:rPr b="0" lang="en-US" sz="1800" spc="-1" strike="noStrike">
                <a:solidFill>
                  <a:srgbClr val="575f6d"/>
                </a:solidFill>
                <a:latin typeface="Century Schoolbook"/>
              </a:rPr>
              <a:t> Edition. Pearson: Boston, MA.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ERFORMANCE BASED ASSESSMENT</a:t>
            </a:r>
            <a:endParaRPr b="0" lang="en-US" sz="3000" spc="-1" strike="noStrike">
              <a:solidFill>
                <a:srgbClr val="fff39d"/>
              </a:solidFill>
              <a:latin typeface="Century Schoolbook"/>
            </a:endParaRPr>
          </a:p>
        </p:txBody>
      </p:sp>
      <p:sp>
        <p:nvSpPr>
          <p:cNvPr id="37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KA…AUTHENTIC ASSESSMENT</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examp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ww.nwrel.org/scpd/sirs/6</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file or folder of student work collected over time</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lem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rner goals or objective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uidelines for selecting student work (</a:t>
            </a:r>
            <a:r>
              <a:rPr b="0" i="1" lang="en-US" sz="2000" spc="-1" strike="noStrike">
                <a:solidFill>
                  <a:srgbClr val="000000"/>
                </a:solidFill>
                <a:latin typeface="Century Schoolbook"/>
              </a:rPr>
              <a:t>Teacher HB</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ble of Cont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ork Samples (chosen by teacher and studen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ultiple assessments (tests)/evaluations (rubric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63972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APER AND PENCIL TESTS</a:t>
            </a:r>
            <a:endParaRPr b="0" lang="en-US" sz="3000" spc="-1" strike="noStrike">
              <a:solidFill>
                <a:srgbClr val="fff39d"/>
              </a:solidFill>
              <a:latin typeface="Century Schoolbook"/>
            </a:endParaRPr>
          </a:p>
        </p:txBody>
      </p:sp>
      <p:sp>
        <p:nvSpPr>
          <p:cNvPr id="38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3"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rt ans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ltiple choi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tch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F or bina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MUST align with instructional objective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Often not teacher created but prepared tests that accompany the adopted text </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INFORMAL EVALUATIONS </a:t>
            </a:r>
            <a:endParaRPr b="0" lang="en-US" sz="3000" spc="-1" strike="noStrike">
              <a:solidFill>
                <a:srgbClr val="fff39d"/>
              </a:solidFill>
              <a:latin typeface="Century Schoolbook"/>
            </a:endParaRPr>
          </a:p>
        </p:txBody>
      </p:sp>
      <p:sp>
        <p:nvSpPr>
          <p:cNvPr id="38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nswering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 self-evaluation/reflect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Questionnai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arning Log- What more could I lear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Jeopar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enty Questio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WB gam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servation (</a:t>
            </a:r>
            <a:r>
              <a:rPr b="0" i="1" lang="en-US" sz="2400" spc="-1" strike="noStrike">
                <a:solidFill>
                  <a:srgbClr val="000000"/>
                </a:solidFill>
                <a:latin typeface="Century Schoolbook"/>
              </a:rPr>
              <a:t>most common and u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lass or small group discuss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ral reports, presentations, role play, dramatizations, etc</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CONFERENCES, OPEN HOUSE, GRADES AND REPORT CARDS</a:t>
            </a:r>
            <a:endParaRPr b="0" lang="en-US" sz="3000" spc="-1" strike="noStrike">
              <a:solidFill>
                <a:srgbClr val="fff39d"/>
              </a:solidFill>
              <a:latin typeface="Century Schoolbook"/>
            </a:endParaRPr>
          </a:p>
        </p:txBody>
      </p:sp>
      <p:sp>
        <p:nvSpPr>
          <p:cNvPr id="389"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AND REPORT CARD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ically A-F; different point scales exi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ee to Four grading periods; each include a progress report and report ca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mple report card or just discuss latest SCPS version; narrative to extremely gene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rning goals and scales used in class; scales of 1-4.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minimal understanding; 2=sort of; 3=got it and 4=advanced understanding</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VEL THREE is considered maste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CREATE A FRIENDLY ENVIRONMENT FOR OPEN HOUSE?</a:t>
            </a:r>
            <a:br>
              <a:rPr sz="2700"/>
            </a:b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nice, clean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class projects displayed around the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tudent-made books on the bookshelves in the </a:t>
            </a:r>
            <a:r>
              <a:rPr b="0" lang="en-US" sz="2400" spc="-1" strike="noStrike">
                <a:solidFill>
                  <a:srgbClr val="000000"/>
                </a:solidFill>
                <a:latin typeface="Century Schoolbook"/>
              </a:rPr>
              <a:t>	</a:t>
            </a:r>
            <a:r>
              <a:rPr b="0" lang="en-US" sz="2400" spc="-1" strike="noStrike">
                <a:solidFill>
                  <a:srgbClr val="000000"/>
                </a:solidFill>
                <a:latin typeface="Century Schoolbook"/>
              </a:rPr>
              <a:t>reading cent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DVD slideshow of the students engaging in everyday </a:t>
            </a:r>
            <a:r>
              <a:rPr b="0" lang="en-US" sz="2400" spc="-1" strike="noStrike">
                <a:solidFill>
                  <a:srgbClr val="000000"/>
                </a:solidFill>
                <a:latin typeface="Century Schoolbook"/>
              </a:rPr>
              <a:t>	</a:t>
            </a:r>
            <a:r>
              <a:rPr b="0" lang="en-US" sz="2400" spc="-1" strike="noStrike">
                <a:solidFill>
                  <a:srgbClr val="000000"/>
                </a:solidFill>
                <a:latin typeface="Century Schoolbook"/>
              </a:rPr>
              <a:t>class activit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 agenda on the student’s desk for the parents to </a:t>
            </a:r>
            <a:r>
              <a:rPr b="0" lang="en-US" sz="2400" spc="-1" strike="noStrike">
                <a:solidFill>
                  <a:srgbClr val="000000"/>
                </a:solidFill>
                <a:latin typeface="Century Schoolbook"/>
              </a:rPr>
              <a:t>	</a:t>
            </a:r>
            <a:r>
              <a:rPr b="0" lang="en-US" sz="2400" spc="-1" strike="noStrike">
                <a:solidFill>
                  <a:srgbClr val="000000"/>
                </a:solidFill>
                <a:latin typeface="Century Schoolbook"/>
              </a:rPr>
              <a:t>re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nacks for the parents set up at a tab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my family” bulletin board of students and their various family memb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OPEN HOUSE?</a:t>
            </a:r>
            <a:br>
              <a:rPr sz="2700"/>
            </a:br>
            <a:endParaRPr b="0" lang="en-US" sz="2700" spc="-1" strike="noStrike">
              <a:solidFill>
                <a:srgbClr val="575f6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daily schedule.  (</a:t>
            </a:r>
            <a:r>
              <a:rPr b="0" i="1" lang="en-US" sz="2200" spc="-1" strike="noStrike">
                <a:solidFill>
                  <a:srgbClr val="000000"/>
                </a:solidFill>
                <a:latin typeface="Century Schoolbook"/>
              </a:rPr>
              <a:t>Classroom Scavenger Hunt</a:t>
            </a:r>
            <a:r>
              <a:rPr b="0" lang="en-US"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ist your classroom rules and expecta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brief personal background and educa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municate the goals for the yea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are some fun activities planned for the year.  Have sign up sheets for conferences, email addresse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work that students have done (class book or a video of what they do (with signed parental cons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e an information board or classroom website </a:t>
            </a:r>
            <a:r>
              <a:rPr b="0" lang="en-US" sz="1400" spc="-1" strike="noStrike">
                <a:solidFill>
                  <a:srgbClr val="000000"/>
                </a:solidFill>
                <a:latin typeface="Century Schoolbook"/>
              </a:rPr>
              <a:t>(Field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eave some time for ques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an explanation of teaching method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TESTING DEFINITIONS…</a:t>
            </a:r>
            <a:endParaRPr b="0" lang="en-US" sz="3000" spc="-1" strike="noStrike">
              <a:solidFill>
                <a:srgbClr val="fff39d"/>
              </a:solidFill>
              <a:latin typeface="Century Schoolbook"/>
            </a:endParaRPr>
          </a:p>
        </p:txBody>
      </p:sp>
      <p:sp>
        <p:nvSpPr>
          <p:cNvPr id="36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OW WOULD YOU SPEAK TO PARENTS? WHAT WOULD YOU WEAR?</a:t>
            </a:r>
            <a:endParaRPr b="0" lang="en-US" sz="30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formal English with a friendly t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talk down to par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repared with ideas and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ess professionall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revealing/tight clothing (low cleavage, </a:t>
            </a:r>
            <a:r>
              <a:rPr b="0" lang="en-US" sz="2400" spc="-1" strike="noStrike">
                <a:solidFill>
                  <a:srgbClr val="000000"/>
                </a:solidFill>
                <a:latin typeface="Century Schoolbook"/>
              </a:rPr>
              <a:t>	</a:t>
            </a:r>
            <a:r>
              <a:rPr b="0" lang="en-US" sz="2400" spc="-1" strike="noStrike">
                <a:solidFill>
                  <a:srgbClr val="000000"/>
                </a:solidFill>
                <a:latin typeface="Century Schoolbook"/>
              </a:rPr>
              <a:t>short ski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functional sho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visible tattoos or body piercing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wear appropriate jewelry, makeup, </a:t>
            </a:r>
            <a:r>
              <a:rPr b="0" lang="en-US" sz="2400" spc="-1" strike="noStrike">
                <a:solidFill>
                  <a:srgbClr val="000000"/>
                </a:solidFill>
                <a:latin typeface="Century Schoolbook"/>
              </a:rPr>
              <a:t>	</a:t>
            </a:r>
            <a:r>
              <a:rPr b="0" lang="en-US" sz="2400" spc="-1" strike="noStrike">
                <a:solidFill>
                  <a:srgbClr val="000000"/>
                </a:solidFill>
                <a:latin typeface="Century Schoolbook"/>
              </a:rPr>
              <a:t>hairstyles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PREPARE FOR A CONFERENCE?</a:t>
            </a:r>
            <a:br>
              <a:rPr sz="2700"/>
            </a:br>
            <a:endParaRPr b="0" lang="en-US" sz="27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ahead of time.  Complete conference form in advance with topics needing to be discus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actice what you will say. (Sandwich techniqu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ther evidence: student’s work, favorite activity,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your conference setting (adult chai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3805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A CONFERENCE?</a:t>
            </a:r>
            <a:br>
              <a:rPr sz="2700"/>
            </a:br>
            <a:endParaRPr b="0" lang="en-US" sz="27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progress - academic, physical, soci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behavior (sandwich technique- good, bad,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daily routine and examples of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e new and upcoming curriculum and ev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uss parents and your own concerns, comments,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at home activities to foster learning and growth in the child’s “problem” are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7617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SHOULD YOU SHARE DIFFICULT INFORMATION WITH PARENTS?  </a:t>
            </a:r>
            <a:br>
              <a:rPr sz="2700"/>
            </a:br>
            <a:r>
              <a:rPr b="1" lang="en-US" sz="2400" spc="-1" strike="noStrike">
                <a:solidFill>
                  <a:srgbClr val="575f6d"/>
                </a:solidFill>
                <a:latin typeface="Century Schoolbook"/>
              </a:rPr>
              <a:t>EXAMPLE:  THE CHILD IS RETAINED.</a:t>
            </a:r>
            <a:br>
              <a:rPr sz="2700"/>
            </a:br>
            <a:endParaRPr b="0" lang="en-US" sz="24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ld regular conferences with at-risk children’s parents so </a:t>
            </a:r>
            <a:r>
              <a:rPr b="0" lang="en-US" sz="2400" spc="-1" strike="noStrike">
                <a:solidFill>
                  <a:srgbClr val="000000"/>
                </a:solidFill>
                <a:latin typeface="Century Schoolbook"/>
              </a:rPr>
              <a:t>	</a:t>
            </a:r>
            <a:r>
              <a:rPr b="0" lang="en-US" sz="2400" spc="-1" strike="noStrike">
                <a:solidFill>
                  <a:srgbClr val="000000"/>
                </a:solidFill>
                <a:latin typeface="Century Schoolbook"/>
              </a:rPr>
              <a:t>they are not surpri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documentation and examples of the student’s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other professional pres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should definitely be a face-to-face confere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information for the parents on the positive eff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the parent with information on how to help.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EET THE TEACHER POE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entury Schoolbook"/>
              </a:rPr>
              <a:t>As sugar and flour come together to make </a:t>
            </a:r>
            <a:br>
              <a:rPr sz="1700"/>
            </a:br>
            <a:r>
              <a:rPr b="1" lang="en-US" sz="1700" spc="-1" strike="noStrike">
                <a:solidFill>
                  <a:srgbClr val="000000"/>
                </a:solidFill>
                <a:latin typeface="Century Schoolbook"/>
              </a:rPr>
              <a:t>A wonderful cookie creation that you bake, </a:t>
            </a:r>
            <a:br>
              <a:rPr sz="1700"/>
            </a:br>
            <a:r>
              <a:rPr b="1" lang="en-US" sz="1700" spc="-1" strike="noStrike">
                <a:solidFill>
                  <a:srgbClr val="000000"/>
                </a:solidFill>
                <a:latin typeface="Century Schoolbook"/>
              </a:rPr>
              <a:t>Parents and teachers join as one </a:t>
            </a:r>
            <a:br>
              <a:rPr sz="1700"/>
            </a:br>
            <a:r>
              <a:rPr b="1" lang="en-US" sz="1700" spc="-1" strike="noStrike">
                <a:solidFill>
                  <a:srgbClr val="000000"/>
                </a:solidFill>
                <a:latin typeface="Century Schoolbook"/>
              </a:rPr>
              <a:t>To create an educated daughter or son. </a:t>
            </a:r>
            <a:br>
              <a:rPr sz="1700"/>
            </a:br>
            <a:br>
              <a:rPr sz="1700"/>
            </a:br>
            <a:r>
              <a:rPr b="1" lang="en-US" sz="1700" spc="-1" strike="noStrike">
                <a:solidFill>
                  <a:srgbClr val="000000"/>
                </a:solidFill>
                <a:latin typeface="Century Schoolbook"/>
              </a:rPr>
              <a:t>It takes lots of love, caring and understanding </a:t>
            </a:r>
            <a:br>
              <a:rPr sz="1700"/>
            </a:br>
            <a:r>
              <a:rPr b="1" lang="en-US" sz="1700" spc="-1" strike="noStrike">
                <a:solidFill>
                  <a:srgbClr val="000000"/>
                </a:solidFill>
                <a:latin typeface="Century Schoolbook"/>
              </a:rPr>
              <a:t>But an individual will emerge who is special notwithstanding. </a:t>
            </a:r>
            <a:br>
              <a:rPr sz="1700"/>
            </a:br>
            <a:r>
              <a:rPr b="1" lang="en-US" sz="1700" spc="-1" strike="noStrike">
                <a:solidFill>
                  <a:srgbClr val="000000"/>
                </a:solidFill>
                <a:latin typeface="Century Schoolbook"/>
              </a:rPr>
              <a:t>We will work together to help each child bloom </a:t>
            </a:r>
            <a:br>
              <a:rPr sz="1700"/>
            </a:br>
            <a:r>
              <a:rPr b="1" lang="en-US" sz="1700" spc="-1" strike="noStrike">
                <a:solidFill>
                  <a:srgbClr val="000000"/>
                </a:solidFill>
                <a:latin typeface="Century Schoolbook"/>
              </a:rPr>
              <a:t>So they can grow and prosper as they learn in this room. </a:t>
            </a:r>
            <a:br>
              <a:rPr sz="1700"/>
            </a:br>
            <a:br>
              <a:rPr sz="1700"/>
            </a:br>
            <a:r>
              <a:rPr b="1" lang="en-US" sz="1700" spc="-1" strike="noStrike">
                <a:solidFill>
                  <a:srgbClr val="000000"/>
                </a:solidFill>
                <a:latin typeface="Century Schoolbook"/>
              </a:rPr>
              <a:t>So I share this little confection with you as I say </a:t>
            </a:r>
            <a:br>
              <a:rPr sz="1700"/>
            </a:br>
            <a:r>
              <a:rPr b="1" lang="en-US" sz="1700" spc="-1" strike="noStrike">
                <a:solidFill>
                  <a:srgbClr val="000000"/>
                </a:solidFill>
                <a:latin typeface="Century Schoolbook"/>
              </a:rPr>
              <a:t>I am committed to helping your child grow each and every day. </a:t>
            </a:r>
            <a:br>
              <a:rPr sz="1700"/>
            </a:br>
            <a:r>
              <a:rPr b="1" lang="en-US" sz="1700" spc="-1" strike="noStrike">
                <a:solidFill>
                  <a:srgbClr val="000000"/>
                </a:solidFill>
                <a:latin typeface="Century Schoolbook"/>
              </a:rPr>
              <a:t>Yes, the road is long, but the journey's begun </a:t>
            </a:r>
            <a:br>
              <a:rPr sz="1700"/>
            </a:br>
            <a:r>
              <a:rPr b="1" lang="en-US" sz="1700" spc="-1" strike="noStrike">
                <a:solidFill>
                  <a:srgbClr val="000000"/>
                </a:solidFill>
                <a:latin typeface="Century Schoolbook"/>
              </a:rPr>
              <a:t>As we strive together to educate your daughter or your s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This year I am going to put a baggie with 2 cookies in it on the desk for the parents with the following poem:</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PEN HOUSE SCAVENGER HUNT</a:t>
            </a: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Please complete the following scavenger hunt:</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1.</a:t>
            </a:r>
            <a:r>
              <a:rPr b="0" lang="en-US" sz="1500" spc="-1" strike="noStrike">
                <a:solidFill>
                  <a:srgbClr val="000000"/>
                </a:solidFill>
                <a:latin typeface="Century Schoolbook"/>
              </a:rPr>
              <a:t>	</a:t>
            </a:r>
            <a:r>
              <a:rPr b="0" lang="en-US" sz="1500" spc="-1" strike="noStrike">
                <a:solidFill>
                  <a:srgbClr val="000000"/>
                </a:solidFill>
                <a:latin typeface="Century Schoolbook"/>
              </a:rPr>
              <a:t>Find your child’s seat and leave them a note to be read in the morning.</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2.</a:t>
            </a:r>
            <a:r>
              <a:rPr b="0" lang="en-US" sz="1500" spc="-1" strike="noStrike">
                <a:solidFill>
                  <a:srgbClr val="000000"/>
                </a:solidFill>
                <a:latin typeface="Century Schoolbook"/>
              </a:rPr>
              <a:t>	</a:t>
            </a:r>
            <a:r>
              <a:rPr b="0" lang="en-US" sz="1500" spc="-1" strike="noStrike">
                <a:solidFill>
                  <a:srgbClr val="000000"/>
                </a:solidFill>
                <a:latin typeface="Century Schoolbook"/>
              </a:rPr>
              <a:t>Find 3 pieces of your child’s work in our classroom.</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3.</a:t>
            </a:r>
            <a:r>
              <a:rPr b="0" lang="en-US" sz="1500" spc="-1" strike="noStrike">
                <a:solidFill>
                  <a:srgbClr val="000000"/>
                </a:solidFill>
                <a:latin typeface="Century Schoolbook"/>
              </a:rPr>
              <a:t>	</a:t>
            </a:r>
            <a:r>
              <a:rPr b="0" lang="en-US" sz="1500" spc="-1" strike="noStrike">
                <a:solidFill>
                  <a:srgbClr val="000000"/>
                </a:solidFill>
                <a:latin typeface="Century Schoolbook"/>
              </a:rPr>
              <a:t>Please sign up for a conference time and record it.</a:t>
            </a: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4.</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alendar and look at all of the activities we do.  Ask your child </a:t>
            </a:r>
            <a:r>
              <a:rPr b="0" lang="en-US" sz="1500" spc="-1" strike="noStrike">
                <a:solidFill>
                  <a:srgbClr val="000000"/>
                </a:solidFill>
                <a:latin typeface="Century Schoolbook"/>
              </a:rPr>
              <a:t>	</a:t>
            </a:r>
            <a:r>
              <a:rPr b="0" lang="en-US" sz="1500" spc="-1" strike="noStrike">
                <a:solidFill>
                  <a:srgbClr val="000000"/>
                </a:solidFill>
                <a:latin typeface="Century Schoolbook"/>
              </a:rPr>
              <a:t>to sing the “Months of the Year” song when you get hom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5.</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lassroom number and write it on the line provided: 407-</a:t>
            </a:r>
            <a:r>
              <a:rPr b="0" lang="en-US" sz="1500" spc="-1" strike="noStrike">
                <a:solidFill>
                  <a:srgbClr val="000000"/>
                </a:solidFill>
                <a:latin typeface="Century Schoolbook"/>
              </a:rPr>
              <a:t>	</a:t>
            </a:r>
            <a:r>
              <a:rPr b="0" lang="en-US" sz="1500" spc="-1" strike="noStrike">
                <a:solidFill>
                  <a:srgbClr val="000000"/>
                </a:solidFill>
                <a:latin typeface="Century Schoolbook"/>
              </a:rPr>
              <a:t>______________</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6. </a:t>
            </a:r>
            <a:r>
              <a:rPr b="0" lang="en-US" sz="1500" spc="-1" strike="noStrike">
                <a:solidFill>
                  <a:srgbClr val="000000"/>
                </a:solidFill>
                <a:latin typeface="Century Schoolbook"/>
              </a:rPr>
              <a:t>	</a:t>
            </a:r>
            <a:r>
              <a:rPr b="0" lang="en-US" sz="1500" spc="-1" strike="noStrike">
                <a:solidFill>
                  <a:srgbClr val="000000"/>
                </a:solidFill>
                <a:latin typeface="Century Schoolbook"/>
              </a:rPr>
              <a:t>Please find the </a:t>
            </a:r>
            <a:r>
              <a:rPr b="0" i="1" lang="en-US" sz="1500" spc="-1" strike="noStrike">
                <a:solidFill>
                  <a:srgbClr val="000000"/>
                </a:solidFill>
                <a:latin typeface="Century Schoolbook"/>
              </a:rPr>
              <a:t>Giving Tree </a:t>
            </a:r>
            <a:r>
              <a:rPr b="0" lang="en-US" sz="1500" spc="-1" strike="noStrike">
                <a:solidFill>
                  <a:srgbClr val="000000"/>
                </a:solidFill>
                <a:latin typeface="Century Schoolbook"/>
              </a:rPr>
              <a:t>and take an apple for anything you’d be </a:t>
            </a:r>
            <a:r>
              <a:rPr b="0" lang="en-US" sz="1500" spc="-1" strike="noStrike">
                <a:solidFill>
                  <a:srgbClr val="000000"/>
                </a:solidFill>
                <a:latin typeface="Century Schoolbook"/>
              </a:rPr>
              <a:t>	</a:t>
            </a:r>
            <a:r>
              <a:rPr b="0" lang="en-US" sz="1500" spc="-1" strike="noStrike">
                <a:solidFill>
                  <a:srgbClr val="000000"/>
                </a:solidFill>
                <a:latin typeface="Century Schoolbook"/>
              </a:rPr>
              <a:t>willing to donate to our class!</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r>
              <a:rPr b="1" lang="en-US" sz="1500" spc="-1" strike="noStrike">
                <a:solidFill>
                  <a:srgbClr val="000000"/>
                </a:solidFill>
                <a:latin typeface="Century Schoolbook"/>
              </a:rPr>
              <a:t>	</a:t>
            </a:r>
            <a:r>
              <a:rPr b="1" lang="en-US" sz="1500" spc="-1" strike="noStrike">
                <a:solidFill>
                  <a:srgbClr val="000000"/>
                </a:solidFill>
                <a:latin typeface="Century Schoolbook"/>
              </a:rPr>
              <a:t>Thank you for coming!  </a:t>
            </a:r>
            <a:r>
              <a:rPr b="1" lang="en-US" sz="1500" spc="-1" strike="noStrike">
                <a:solidFill>
                  <a:srgbClr val="000000"/>
                </a:solidFill>
                <a:latin typeface="Wingdings"/>
                <a:ea typeface="Wingdings"/>
              </a:rPr>
              <a: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Assessment</a:t>
            </a:r>
            <a:r>
              <a:rPr b="0" lang="en-US" sz="2400" spc="-1" strike="noStrike">
                <a:solidFill>
                  <a:srgbClr val="000000"/>
                </a:solidFill>
                <a:latin typeface="Century Schoolbook"/>
              </a:rPr>
              <a:t>- the process for gathering information about student learning (</a:t>
            </a:r>
            <a:r>
              <a:rPr b="0" i="1" lang="en-US" sz="2400" spc="-1" strike="noStrike">
                <a:solidFill>
                  <a:srgbClr val="000000"/>
                </a:solidFill>
                <a:latin typeface="Century Schoolbook"/>
              </a:rPr>
              <a:t>most common example- paper and pencil test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Evaluation</a:t>
            </a:r>
            <a:r>
              <a:rPr b="0" lang="en-US" sz="2400" spc="-1" strike="noStrike">
                <a:solidFill>
                  <a:srgbClr val="000000"/>
                </a:solidFill>
                <a:latin typeface="Century Schoolbook"/>
              </a:rPr>
              <a:t>- the judgments and interpretations on how well students have achieved (</a:t>
            </a:r>
            <a:r>
              <a:rPr b="0" i="1" lang="en-US" sz="2400" spc="-1" strike="noStrike">
                <a:solidFill>
                  <a:srgbClr val="000000"/>
                </a:solidFill>
                <a:latin typeface="Century Schoolbook"/>
              </a:rPr>
              <a:t>common examples- letter grades {A,B,C} and rankings {Satisfactory, Unsatisfactory;  Demonstrated, Not Demonstr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esting</a:t>
            </a:r>
            <a:r>
              <a:rPr b="0" lang="en-US" sz="2400" spc="-1" strike="noStrike">
                <a:solidFill>
                  <a:srgbClr val="000000"/>
                </a:solidFill>
                <a:latin typeface="Century Schoolbook"/>
              </a:rPr>
              <a:t>- the procedure for gathering data to check is learning objectives have been achie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Value Added Assessment</a:t>
            </a:r>
            <a:r>
              <a:rPr b="0" lang="en-US" sz="2400" spc="-1" strike="noStrike">
                <a:solidFill>
                  <a:srgbClr val="000000"/>
                </a:solidFill>
                <a:latin typeface="Century Schoolbook"/>
              </a:rPr>
              <a:t>- refers to </a:t>
            </a:r>
            <a:r>
              <a:rPr b="0" i="1" lang="en-US" sz="2400" spc="-1" strike="noStrike">
                <a:solidFill>
                  <a:srgbClr val="000000"/>
                </a:solidFill>
                <a:latin typeface="Century Schoolbook"/>
              </a:rPr>
              <a:t>proficiency</a:t>
            </a:r>
            <a:r>
              <a:rPr b="0" lang="en-US" sz="2400" spc="-1" strike="noStrike">
                <a:solidFill>
                  <a:srgbClr val="000000"/>
                </a:solidFill>
                <a:latin typeface="Century Schoolbook"/>
              </a:rPr>
              <a:t> or achievement at year’s end and </a:t>
            </a:r>
            <a:r>
              <a:rPr b="0" i="1" lang="en-US" sz="2400" spc="-1" strike="noStrike">
                <a:solidFill>
                  <a:srgbClr val="000000"/>
                </a:solidFill>
                <a:latin typeface="Century Schoolbook"/>
              </a:rPr>
              <a:t>growth</a:t>
            </a:r>
            <a:r>
              <a:rPr b="0" lang="en-US" sz="2400" spc="-1" strike="noStrike">
                <a:solidFill>
                  <a:srgbClr val="000000"/>
                </a:solidFill>
                <a:latin typeface="Century Schoolbook"/>
              </a:rPr>
              <a:t> or progress on end of the year tests (</a:t>
            </a:r>
            <a:r>
              <a:rPr b="0" i="1" lang="en-US" sz="2400" spc="-1" strike="noStrike">
                <a:solidFill>
                  <a:srgbClr val="000000"/>
                </a:solidFill>
                <a:latin typeface="Century Schoolbook"/>
              </a:rPr>
              <a:t>NCLB &amp; AYP</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URPOSE OF ASSESSING/TESTING</a:t>
            </a:r>
            <a:endParaRPr b="0" lang="en-US" sz="3000" spc="-1" strike="noStrike">
              <a:solidFill>
                <a:srgbClr val="575f6d"/>
              </a:solidFill>
              <a:latin typeface="Century Schoolbook"/>
            </a:endParaRPr>
          </a:p>
        </p:txBody>
      </p:sp>
      <p:sp>
        <p:nvSpPr>
          <p:cNvPr id="365" name=""/>
          <p:cNvSpPr txBox="1"/>
          <p:nvPr/>
        </p:nvSpPr>
        <p:spPr>
          <a:xfrm>
            <a:off x="533160" y="1295280"/>
            <a:ext cx="7467480" cy="510552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ck to see if the objectives  have been achieved</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suggest that teachers:</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 if standards/objectives have been me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multiple measures to assess student achievemen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assessment to guide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formative evaluations (</a:t>
            </a:r>
            <a:r>
              <a:rPr b="0" i="1" lang="en-US" sz="2100" spc="-1" strike="noStrike">
                <a:solidFill>
                  <a:srgbClr val="000000"/>
                </a:solidFill>
                <a:latin typeface="Century Schoolbook"/>
              </a:rPr>
              <a:t>throughou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summative evaluations (</a:t>
            </a:r>
            <a:r>
              <a:rPr b="0" i="1" lang="en-US" sz="2100" spc="-1" strike="noStrike">
                <a:solidFill>
                  <a:srgbClr val="000000"/>
                </a:solidFill>
                <a:latin typeface="Century Schoolbook"/>
              </a:rPr>
              <a:t>end of unit-compare to pre- “test”)</a:t>
            </a:r>
            <a:endParaRPr b="0" lang="en-US" sz="2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worry- </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or teaching practices that “teach to the tes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Drill and Kill”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heating</a:t>
            </a:r>
            <a:endParaRPr b="0" lang="en-US" sz="2100" spc="-1" strike="noStrike">
              <a:solidFill>
                <a:srgbClr val="000000"/>
              </a:solidFill>
              <a:latin typeface="Century Schoolbook"/>
            </a:endParaRPr>
          </a:p>
          <a:p>
            <a:pPr lvl="1" marL="613800" indent="-2617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FEDERAL AND STATE ROLES IN TESTING</a:t>
            </a:r>
            <a:endParaRPr b="0" lang="en-US" sz="3000" spc="-1" strike="noStrike">
              <a:solidFill>
                <a:srgbClr val="fff39d"/>
              </a:solidFill>
              <a:latin typeface="Century Schoolbook"/>
            </a:endParaRPr>
          </a:p>
        </p:txBody>
      </p:sp>
      <p:sp>
        <p:nvSpPr>
          <p:cNvPr id="36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CLB </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hild Left Behind Act of 2001</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iggest education reform act in a quarter centu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ssed House (381-41) and Senate (87-10)</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chools were to be held to high, measurable standards to increase student achievement for all groups; these standards set by individual st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oad accountability; testing to take place in grades 3-8 (*FC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iling schools faced serious sanctions (ie. </a:t>
            </a:r>
            <a:r>
              <a:rPr b="0" i="1" lang="en-US" sz="2100" spc="-1" strike="noStrike">
                <a:solidFill>
                  <a:srgbClr val="000000"/>
                </a:solidFill>
                <a:latin typeface="Century Schoolbook"/>
              </a:rPr>
              <a:t>Vouchers, replacement of staff, converting to charter statu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vi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CA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d by the state of Florida as required by NCL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ll cease to exist in FL in 2014 but will be replaced by another high-stakes te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stakes/standards based testing- rewards and </a:t>
            </a:r>
            <a:r>
              <a:rPr b="0" i="1" lang="en-US" sz="2400" spc="-1" strike="noStrike">
                <a:solidFill>
                  <a:srgbClr val="000000"/>
                </a:solidFill>
                <a:latin typeface="Century Schoolbook"/>
              </a:rPr>
              <a:t>penalties </a:t>
            </a:r>
            <a:r>
              <a:rPr b="0" lang="en-US" sz="2400" spc="-1" strike="noStrike">
                <a:solidFill>
                  <a:srgbClr val="000000"/>
                </a:solidFill>
                <a:latin typeface="Century Schoolbook"/>
              </a:rPr>
              <a:t>directed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s- promotion/retent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ministrators- loss of job or a transfe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istricts- State could take direct control over school or distric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ESTING “TAKE” ON NCLB</a:t>
            </a:r>
            <a:endParaRPr b="0" lang="en-US" sz="3000" spc="-1" strike="noStrike">
              <a:solidFill>
                <a:srgbClr val="575f6d"/>
              </a:solidFill>
              <a:latin typeface="Century Schoolbook"/>
            </a:endParaRPr>
          </a:p>
        </p:txBody>
      </p:sp>
      <p:sp>
        <p:nvSpPr>
          <p:cNvPr id="373" name=""/>
          <p:cNvSpPr txBox="1"/>
          <p:nvPr/>
        </p:nvSpPr>
        <p:spPr>
          <a:xfrm>
            <a:off x="533160" y="1142640"/>
            <a:ext cx="7467480" cy="5334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This is the football version of what is going on in education right now. For all educators in and out of the education system: </a:t>
            </a: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teams must make the state playoffs and all MUST win the championship If a team does not win the championship, they will be on probation until they are the champions, and coaches will be held accountable. If after two years they have not won the championship their footballs and equipment will be taken away UNTIL they do win the championship.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kids will be expected to have the same football skills at the same time, even if they do not have the same conditions or opportunities to practice on their own. NO exceptions will be made for lack of interest in football, a desire to perform athletically, or genetic abilities or disabilities of themselves or their parents. ALL KIDS WILL PLAY FOOTBALL AT A PROFICIENT LEVE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alented players will be asked to workout on their own, without instruction. This is because the coaches will be using all their instructional time with the athletes who aren't interested in football, have limited athletic ability or whose parents don't like footbal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Games will be played year round, but statistics will only be kept in the 4th, 8th, and 11th game. This will create a New Age of Sports where every school is expected to have the same level of talent and all teams will reach the same minimum goals. If no child gets ahead, then no child gets left behind. If parents do not like this new law, they are encouraged to vote for vouchers and support private schools that can screen out the non-athletes and prevent their children from having to go to school with bad football player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EP</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ational Assessment of Educational Progr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dated by Congress since 1969</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asures student growth; criterion ba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rge samples of American students tested in grades 4, 8, 12</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sults generalized to the entire 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hows the strengths and weaknesses of American students; </a:t>
            </a:r>
            <a:r>
              <a:rPr b="0" i="1" lang="en-US" sz="2100" spc="-1" strike="noStrike">
                <a:solidFill>
                  <a:srgbClr val="000000"/>
                </a:solidFill>
                <a:latin typeface="Century Schoolbook"/>
              </a:rPr>
              <a:t>Nations Report 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NAEP assessments- one does cover SS; the other covers reading,writing, math and sc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nces.ed.gov/nationsreport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26:37Z</dcterms:created>
  <dc:creator>testuser</dc:creator>
  <dc:description/>
  <dc:language>en-US</dc:language>
  <cp:lastModifiedBy>Lee-Anne Trimble Spalding</cp:lastModifiedBy>
  <dcterms:modified xsi:type="dcterms:W3CDTF">2013-10-07T18:45:39Z</dcterms:modified>
  <cp:revision>26</cp:revision>
  <dc:subject/>
  <dc:title>Using Multiple Assessments to Evaluate Student Learning in the Social Studies</dc:title>
</cp:coreProperties>
</file>